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1C6-D247-4F26-B50C-36483B47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DB0-CDC0-42A2-84AC-042A75E1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B07-4F39-48E3-8BAF-5AA062D5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68B-9FAD-4DF6-B3B8-A98A6153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525-826B-4324-9730-DCFE1176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5A0-D4CD-4ED4-BAB6-CE2E6F6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01B-533B-4BEC-BDF6-C3A7D0A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DA1-CA89-45DE-97CC-E39C703D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EE1-741B-4A71-92C4-CAD58106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0F3-F1F7-4092-9A6A-6136015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D24-6813-4235-970F-25931B3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1C0-F1C2-40E2-8AAD-3447243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AEB-3E26-4A87-88DD-02874783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2.jpeg"/><Relationship Id="rId14" Type="http://schemas.openxmlformats.org/officeDocument/2006/relationships/image" Target="../media/image14.jpeg"/><Relationship Id="rId15" Type="http://schemas.openxmlformats.org/officeDocument/2006/relationships/image" Target="../media/image11.jpeg"/><Relationship Id="rId16" Type="http://schemas.openxmlformats.org/officeDocument/2006/relationships/image" Target="../media/image15.jpeg"/><Relationship Id="rId17" Type="http://schemas.openxmlformats.org/officeDocument/2006/relationships/image" Target="../media/image12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7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97000"/>
            <a:ext cx="7705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servation id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765000"/>
            <a:ext cx="7272360" cy="1943280"/>
          </a:xfrm>
          <a:prstGeom prst="wedgeRoundRectCallout">
            <a:avLst>
              <a:gd name="adj1" fmla="val -9287"/>
              <a:gd name="adj2" fmla="val 74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look at the tray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hings will be different can you guess what they 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6272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765000"/>
            <a:ext cx="7272360" cy="1943280"/>
          </a:xfrm>
          <a:prstGeom prst="wedgeRoundRectCallout">
            <a:avLst>
              <a:gd name="adj1" fmla="val -9287"/>
              <a:gd name="adj2" fmla="val 74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look at the tray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hings will be different can you guess what they 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37239" t="0" r="0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rcRect l="16242" t="14958" r="14400" b="11329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765000"/>
            <a:ext cx="7272360" cy="1943280"/>
          </a:xfrm>
          <a:prstGeom prst="wedgeRoundRectCallout">
            <a:avLst>
              <a:gd name="adj1" fmla="val -9287"/>
              <a:gd name="adj2" fmla="val 74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look at the tray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hings will be different can you guess what they 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1952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539640" y="3789360"/>
            <a:ext cx="102096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55600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rcRect l="0" t="16000" r="0" b="10071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037040" cy="3433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429264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ime to 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our brain rea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360" y="404640"/>
            <a:ext cx="3600360" cy="1079640"/>
          </a:xfrm>
          <a:prstGeom prst="wedgeRoundRectCallout">
            <a:avLst>
              <a:gd name="adj1" fmla="val 79717"/>
              <a:gd name="adj2" fmla="val 4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ry something really h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538360" cy="496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ou are going to observe a candle very car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197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olour of the string at the top of the cand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at the candle feels l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see any marks, or spots, inside the candl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how hard the candle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 something about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538360" cy="496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w look at the can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269720"/>
            <a:ext cx="39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lors are in the fla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smok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is the flame dar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an you do to change the shape of the fla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wax dripping down the side of the cand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the wax that is dripping down the side of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the candle make any noise as it bur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the burning candle produce an smell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538360" cy="4967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33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you tell me about the candle? What did you obse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4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3489480"/>
            <a:ext cx="4716360" cy="33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4859280" y="549360"/>
            <a:ext cx="428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Spot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diffe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553440" cy="606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260280"/>
            <a:ext cx="741672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26828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13372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92428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78936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58136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37372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3728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11640" cy="485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1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1 minute to look at this pictur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76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man’s su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002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ben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7082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eating on the grou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404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name 3 of the sports in the pic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baseball player’s c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76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fisherman’s t-shi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037040" cy="343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19280" y="429264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ime to 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our brain rea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2:45:19Z</dcterms:created>
  <dc:creator>k.bailey</dc:creator>
  <dc:description/>
  <dc:language>en-US</dc:language>
  <cp:lastModifiedBy>k.bailey</cp:lastModifiedBy>
  <dcterms:modified xsi:type="dcterms:W3CDTF">2009-10-12T12:46:55Z</dcterms:modified>
  <cp:revision>1</cp:revision>
  <dc:subject/>
  <dc:title>Slide 1</dc:title>
</cp:coreProperties>
</file>